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D2A-5036-4F03-AFA5-1C438FB7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BCF-91BB-4AC1-A769-69C02F3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354-9FB8-479A-8FB1-262C2018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855-4C94-4F15-8F7D-E607B13A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685-2ABE-4E4A-BF4D-FF0CC290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077-A9F8-4639-9DF4-B6B40BF1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FD7-25CE-4C27-99D6-7D9C6DF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D47-A8C1-4AA6-B0CC-97AD535C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5B0-008E-465E-9DCF-3D61F598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FE3-B505-4257-A2E6-8C6B655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76D-E65B-4732-A4C6-22B08E9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6DB-D4A9-4924-B91B-E751F01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943-C169-427F-B37B-7C3FEA12F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irate’s 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ory and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rate’s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ce s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pace suit"/>
          <p:cNvPicPr/>
          <p:nvPr/>
        </p:nvPicPr>
        <p:blipFill>
          <a:blip r:embed="rId1"/>
          <a:stretch/>
        </p:blipFill>
        <p:spPr>
          <a:xfrm>
            <a:off x="4267080" y="-76320"/>
            <a:ext cx="4648320" cy="69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rate"/>
          <p:cNvPicPr/>
          <p:nvPr/>
        </p:nvPicPr>
        <p:blipFill>
          <a:blip r:embed="rId1"/>
          <a:stretch/>
        </p:blipFill>
        <p:spPr>
          <a:xfrm>
            <a:off x="32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380952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were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to use in a mythical 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 keep away the Pi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gua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5791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Forgive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You were prob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using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scare away the igu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 user, andedam. "Green iguana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andedam/3032620124/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 user, capn madd matt. "Pirate Curse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60852569@N00/1406586595/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y via. "space suit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via/3283651188/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30:20Z</dcterms:created>
  <dc:creator>Lakeview</dc:creator>
  <dc:description/>
  <dc:language>en-US</dc:language>
  <cp:lastModifiedBy>cyndi.vander_ven</cp:lastModifiedBy>
  <dcterms:modified xsi:type="dcterms:W3CDTF">2009-04-17T13:18:37Z</dcterms:modified>
  <cp:revision>3</cp:revision>
  <dc:subject/>
  <dc:title>The poem</dc:title>
</cp:coreProperties>
</file>